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541D8-E32D-4952-972A-4464C47E0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0" y="1523880"/>
            <a:ext cx="7086600" cy="223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WORD ART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42F1-A929-4668-AC21-F471E4BAA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D84E-7AA0-41B4-9EC7-F8F8AC38A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602D-EA23-46E4-A655-D0CD926C8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1168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600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4772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1168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600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EB14-A791-4162-B9CD-DBC8EDD29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A20E1-83FC-44C3-938A-6978B43C5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8A865-7B0A-42FA-BBEE-6DF121FD8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2D3AA-B985-4E1E-8D36-93437EDE7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BBC88-D0CC-4E6C-9BF2-7A8924EB4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A0C4C-DF86-4DEE-8B00-781DD3AA2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61920" y="1925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7A87E-0553-4327-8A79-C992967BF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54E9B-7994-4015-B437-2402DF09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9F36-D552-472D-B87A-50703D09C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B30D6-99D1-49EB-AABE-33AFF42B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F80A1-3EE8-464D-9B8A-595869F0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E2FAF-690B-4D97-8080-9112315E9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758A4-C104-43EF-88EB-E37C12A39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168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7600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64772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168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7600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EBB9B-DCEF-462D-9C89-4791911D1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AEDB-F29C-4812-9771-E9F3828C5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F75B-DF81-4FA5-AFC7-942EA35DE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9334-272A-4A5B-9860-4C9238919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61920" y="1925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ACB4-640A-4980-A231-504B1D158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708E-2F80-4169-94BC-75CBE05F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F757-6D4F-4B32-8B0A-A48B4D33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F588-C198-4859-B15D-CA323AB4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6C129-D9B3-4BC6-82F6-CF6420B3CE18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4916C-BED5-420A-8EE0-F2DCA479783D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61560" y="2286000"/>
            <a:ext cx="7496280" cy="782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a08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en-US" sz="6000" spc="-1" strike="noStrike">
                <a:solidFill>
                  <a:srgbClr val="996633"/>
                </a:solidFill>
                <a:latin typeface="Times New Roman"/>
              </a:rPr>
              <a:t>The Power Of PowerPoint</a:t>
            </a:r>
            <a:endParaRPr b="0" lang="en-US" sz="6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647720" y="4190760"/>
            <a:ext cx="6400800" cy="12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d3333"/>
                </a:solidFill>
                <a:latin typeface="Times New Roman"/>
              </a:rPr>
              <a:t>A simple slide show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d3333"/>
                </a:solidFill>
                <a:latin typeface="Times New Roman"/>
              </a:rPr>
              <a:t>with no special effects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733920" y="380880"/>
            <a:ext cx="1847880" cy="1733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726400" y="6440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d3333"/>
                </a:solidFill>
                <a:latin typeface="Times New Roman"/>
              </a:rPr>
              <a:t>Power Point Fact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A bulleted list allows you to indent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Just use the arrow on the Toolbar that points to the right to “decrease”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nd the one that points left to “increase”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s is just like the outline tool in your Word Processo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726400" y="6440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d3333"/>
                </a:solidFill>
                <a:latin typeface="Times New Roman"/>
              </a:rPr>
              <a:t>Design</a:t>
            </a: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cd3333"/>
                </a:solidFill>
                <a:latin typeface="Times New Roman"/>
              </a:rPr>
              <a:t>Tip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t is easy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o change</a:t>
            </a: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02000"/>
                </a:solidFill>
                <a:latin typeface="Comic Sans MS"/>
              </a:rPr>
              <a:t>font</a:t>
            </a:r>
            <a:r>
              <a:rPr b="0" i="1" lang="en-US" sz="2400" spc="-1" strike="noStrike">
                <a:solidFill>
                  <a:srgbClr val="402000"/>
                </a:solidFill>
                <a:latin typeface="Comic Sans MS"/>
              </a:rPr>
              <a:t>,</a:t>
            </a: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i="1" lang="en-US" sz="6600" spc="-1" strike="noStrike">
                <a:solidFill>
                  <a:srgbClr val="402000"/>
                </a:solidFill>
                <a:latin typeface="Times New Roman"/>
              </a:rPr>
              <a:t>size</a:t>
            </a: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and </a:t>
            </a:r>
            <a:r>
              <a:rPr b="1" i="1" lang="en-US" sz="2400" spc="-1" strike="noStrike">
                <a:solidFill>
                  <a:srgbClr val="402000"/>
                </a:solidFill>
                <a:latin typeface="Times New Roman"/>
              </a:rPr>
              <a:t>style</a:t>
            </a: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.</a:t>
            </a:r>
            <a:br>
              <a:rPr sz="2400"/>
            </a:b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Beware of  too many words on a slide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ndale Mono"/>
              </a:rPr>
              <a:t>Remember-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Bassett"/>
              </a:rPr>
              <a:t>too </a:t>
            </a:r>
            <a:r>
              <a:rPr b="0" lang="en-US" sz="3200" spc="-1" strike="noStrike">
                <a:solidFill>
                  <a:srgbClr val="402000"/>
                </a:solidFill>
                <a:latin typeface="Amaze"/>
              </a:rPr>
              <a:t>many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Blew"/>
              </a:rPr>
              <a:t>fonts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Copperplate Gothic Bold"/>
              </a:rPr>
              <a:t>spoil </a:t>
            </a:r>
            <a:r>
              <a:rPr b="0" lang="en-US" sz="3200" spc="-1" strike="noStrike">
                <a:solidFill>
                  <a:srgbClr val="402000"/>
                </a:solidFill>
                <a:latin typeface="BrushScript BT"/>
              </a:rPr>
              <a:t>the </a:t>
            </a:r>
            <a:r>
              <a:rPr b="0" lang="en-US" sz="3200" spc="-1" strike="noStrike">
                <a:solidFill>
                  <a:srgbClr val="402000"/>
                </a:solidFill>
                <a:latin typeface="Carla"/>
              </a:rPr>
              <a:t>slide!</a:t>
            </a:r>
            <a:br>
              <a:rPr sz="3200"/>
            </a:br>
            <a:r>
              <a:rPr b="0" lang="en-US" sz="3200" spc="-1" strike="noStrike">
                <a:solidFill>
                  <a:srgbClr val="402000"/>
                </a:solidFill>
                <a:latin typeface="Carla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43240" y="3048120"/>
            <a:ext cx="5429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470640" y="34894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53080" y="457200"/>
            <a:ext cx="2057400" cy="1981080"/>
          </a:xfrm>
          <a:prstGeom prst="sun">
            <a:avLst>
              <a:gd name="adj" fmla="val 25000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133720" y="2590920"/>
            <a:ext cx="5902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The text above was created using ....Word Art!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02000"/>
                </a:solidFill>
                <a:latin typeface="Comic Sans MS"/>
              </a:rPr>
              <a:t>And this is an example of Italicized text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02000"/>
                </a:solidFill>
                <a:latin typeface="Comic Sans MS"/>
              </a:rPr>
              <a:t>Aligned to the Center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d3333"/>
                </a:solidFill>
                <a:latin typeface="Times New Roman"/>
              </a:rPr>
              <a:t>Every Field is Easy to Edi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Just click on a text area. A cursor appears, just like in a word processor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he  text box grows to accommodate the text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o change the shape of a text box, pull the “handles” until it looks just right.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e Spell Checker works in PowerPoint!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d3333"/>
                </a:solidFill>
                <a:latin typeface="Times New Roman"/>
              </a:rPr>
              <a:t>Adding Clip Art to a Slide: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Can make a message leap off the screen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o change an image, double-click. The clip art menu will appear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 good picture can inspire you to edit your words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351400" y="1828800"/>
            <a:ext cx="3013200" cy="4114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371600" y="3200400"/>
            <a:ext cx="312408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d3333"/>
                </a:solidFill>
                <a:latin typeface="Times New Roman"/>
              </a:rPr>
              <a:t>A Few Helpful Tip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90720" y="1892160"/>
            <a:ext cx="3809880" cy="39862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Use the Views to organize your slide show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reate and edit an Outline directly in Outline view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o rearrange slides, go to Slide Sorter view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Double click a slide in any view to activate it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3333"/>
                </a:solidFill>
                <a:latin typeface="Times New Roman"/>
              </a:rPr>
              <a:t>Now You Try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08366"/>
                </a:solidFill>
                <a:latin typeface="Times New Roman"/>
              </a:rPr>
              <a:t>You’ve Got the Power</a:t>
            </a:r>
            <a:endParaRPr b="0" lang="en-US" sz="48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95280" y="609480"/>
            <a:ext cx="1752840" cy="1600200"/>
          </a:xfrm>
          <a:prstGeom prst="sun">
            <a:avLst>
              <a:gd name="adj" fmla="val 25000"/>
            </a:avLst>
          </a:prstGeom>
          <a:solidFill>
            <a:srgbClr val="cd3333"/>
          </a:solidFill>
          <a:ln w="0">
            <a:noFill/>
          </a:ln>
          <a:effectLst>
            <a:outerShdw dist="17819" dir="2700000" blurRad="0" rotWithShape="0">
              <a:srgbClr val="7a1e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30T18:46:05Z</dcterms:created>
  <dc:creator>Hank Piatek</dc:creator>
  <dc:description/>
  <dc:language>en-US</dc:language>
  <cp:lastModifiedBy>cworden</cp:lastModifiedBy>
  <dcterms:modified xsi:type="dcterms:W3CDTF">2008-08-14T18:47:13Z</dcterms:modified>
  <cp:revision>7</cp:revision>
  <dc:subject/>
  <dc:title> The Power Of PowerPoint</dc:title>
</cp:coreProperties>
</file>